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9F0-55CE-460B-96F1-EB2D8B6E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631-0BD9-4D1A-A8F0-7E662F56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ACC-A4DD-4642-A8F8-4E1A3F76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956-6A31-4291-BD1A-4220C0A5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D02B9-0B60-4CD0-8FD8-03D822C6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F0DD5-CFC9-4D70-AA3B-1016A89F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4859B-F298-4AAE-8523-406CA25D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41BA1-5A45-4283-9F74-67ED2D7D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7139F-B728-4F5C-AC5D-97E817AA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2AE56-5158-4378-8319-D62904EC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13484-4122-4AEE-B03E-8D604EFE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0A0-9460-4CEC-8C3E-44485DC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1FC9B-8EE2-4BD8-976B-A77F48A4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8253B-F57B-45C7-AA8C-91FC14D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D03E1-C4E4-4ABF-926B-D2B1A2A5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E10EE-E54F-4DFE-96D6-6709C49F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D1BAC-36AF-4C34-98BC-3C035C19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088-DFED-4590-A141-FA25705B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8EF-A1C9-41F9-AFD5-F7180112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E6E-2302-41C7-9897-F7079C89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206-C8D5-46CA-923F-2AAB306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F10-36E5-4B92-848D-6AEB358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044-606C-4B38-B940-745251B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4C3-20D6-470B-9133-7331FAE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191F-121B-4BAD-916A-0730AB544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089-4ED1-4D57-AC3A-BB893AE7C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pp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iends, Family or Fo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381560" cy="283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42735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90920" y="396720"/>
            <a:ext cx="4190760" cy="264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3429000"/>
            <a:ext cx="42735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768240"/>
            <a:ext cx="3495600" cy="210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09680" y="3657600"/>
            <a:ext cx="42735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mi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5108400"/>
            <a:ext cx="2590560" cy="17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943600" y="1371600"/>
            <a:ext cx="2590920" cy="1595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4920" y="1219320"/>
            <a:ext cx="2514600" cy="1625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867280" y="3200400"/>
            <a:ext cx="2749680" cy="177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28600" y="3200400"/>
            <a:ext cx="2743200" cy="1768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867280" y="5059440"/>
            <a:ext cx="2781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1:57:41Z</dcterms:created>
  <dc:creator>Dan Wilson</dc:creator>
  <dc:description/>
  <dc:language>en-US</dc:language>
  <cp:lastModifiedBy>Dan Wilson</cp:lastModifiedBy>
  <dcterms:modified xsi:type="dcterms:W3CDTF">2008-01-23T22:04:58Z</dcterms:modified>
  <cp:revision>4</cp:revision>
  <dc:subject/>
  <dc:title>Guppies</dc:title>
</cp:coreProperties>
</file>